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ct" ContentType="image/x-pict"/>
  <Override PartName="/ppt/media/image3.pct" ContentType="image/x-pict"/>
  <Override PartName="/ppt/media/image4.pct" ContentType="image/x-pi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8CAF-E034-41C1-90FF-A47E18047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B01C-0E91-4A7D-AB46-AA3CBE557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A4D0-AE53-4EEC-9D50-F6AA3A93F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BEBF-00B8-4181-A989-A953500E6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2826-8674-4168-9F76-CBE1350E0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C655-D4CA-418B-A36D-1F5B068B3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BA43-0618-4303-B5AC-01F821906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0608-13E3-4D38-97A9-EC9C77501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1066-0B8F-401A-86C9-E58EFDE95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C42E-8C70-4E14-874E-AB9F9F42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BD98-7BF0-4988-8E04-6B305A445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15E0-2000-4C65-AF1D-6123F2C48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8A5D9-401E-43DB-8FED-CFF776928B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9.xml"/><Relationship Id="rId6" Type="http://schemas.openxmlformats.org/officeDocument/2006/relationships/slide" Target="slide9.xml"/><Relationship Id="rId7" Type="http://schemas.openxmlformats.org/officeDocument/2006/relationships/slide" Target="slide30.xml"/><Relationship Id="rId8" Type="http://schemas.openxmlformats.org/officeDocument/2006/relationships/slide" Target="slide13.xml"/><Relationship Id="rId9" Type="http://schemas.openxmlformats.org/officeDocument/2006/relationships/slide" Target="slide13.xml"/><Relationship Id="rId10" Type="http://schemas.openxmlformats.org/officeDocument/2006/relationships/slide" Target="slide24.xml"/><Relationship Id="rId11" Type="http://schemas.openxmlformats.org/officeDocument/2006/relationships/slide" Target="slide15.xml"/><Relationship Id="rId12" Type="http://schemas.openxmlformats.org/officeDocument/2006/relationships/slide" Target="slide17.xml"/><Relationship Id="rId13" Type="http://schemas.openxmlformats.org/officeDocument/2006/relationships/slide" Target="slide17.xml"/><Relationship Id="rId14" Type="http://schemas.openxmlformats.org/officeDocument/2006/relationships/slide" Target="slide19.xml"/><Relationship Id="rId15" Type="http://schemas.openxmlformats.org/officeDocument/2006/relationships/slide" Target="slide22.xml"/><Relationship Id="rId16" Type="http://schemas.openxmlformats.org/officeDocument/2006/relationships/slide" Target="slide5.xml"/><Relationship Id="rId17" Type="http://schemas.openxmlformats.org/officeDocument/2006/relationships/slide" Target="slide24.xml"/><Relationship Id="rId18" Type="http://schemas.openxmlformats.org/officeDocument/2006/relationships/slide" Target="slide41.xml"/><Relationship Id="rId19" Type="http://schemas.openxmlformats.org/officeDocument/2006/relationships/slide" Target="slide26.xml"/><Relationship Id="rId20" Type="http://schemas.openxmlformats.org/officeDocument/2006/relationships/slide" Target="slide28.xml"/><Relationship Id="rId21" Type="http://schemas.openxmlformats.org/officeDocument/2006/relationships/slide" Target="slide28.xml"/><Relationship Id="rId22" Type="http://schemas.openxmlformats.org/officeDocument/2006/relationships/slide" Target="slide31.xml"/><Relationship Id="rId23" Type="http://schemas.openxmlformats.org/officeDocument/2006/relationships/slide" Target="slide33.xml"/><Relationship Id="rId24" Type="http://schemas.openxmlformats.org/officeDocument/2006/relationships/slide" Target="slide33.xml"/><Relationship Id="rId25" Type="http://schemas.openxmlformats.org/officeDocument/2006/relationships/slide" Target="slide35.xml"/><Relationship Id="rId26" Type="http://schemas.openxmlformats.org/officeDocument/2006/relationships/slide" Target="slide35.xml"/><Relationship Id="rId27" Type="http://schemas.openxmlformats.org/officeDocument/2006/relationships/slide" Target="slide37.xml"/><Relationship Id="rId28" Type="http://schemas.openxmlformats.org/officeDocument/2006/relationships/slide" Target="slide39.xml"/><Relationship Id="rId29" Type="http://schemas.openxmlformats.org/officeDocument/2006/relationships/slide" Target="slide45.xml"/><Relationship Id="rId30" Type="http://schemas.openxmlformats.org/officeDocument/2006/relationships/slide" Target="slide43.xml"/><Relationship Id="rId31" Type="http://schemas.openxmlformats.org/officeDocument/2006/relationships/slide" Target="slide15.xml"/><Relationship Id="rId32" Type="http://schemas.openxmlformats.org/officeDocument/2006/relationships/slide" Target="slide47.xml"/><Relationship Id="rId33" Type="http://schemas.openxmlformats.org/officeDocument/2006/relationships/slide" Target="slide47.xml"/><Relationship Id="rId34" Type="http://schemas.openxmlformats.org/officeDocument/2006/relationships/slide" Target="slide51.xml"/><Relationship Id="rId35" Type="http://schemas.openxmlformats.org/officeDocument/2006/relationships/slide" Target="slide26.xml"/><Relationship Id="rId36" Type="http://schemas.openxmlformats.org/officeDocument/2006/relationships/slide" Target="slide3.xml"/><Relationship Id="rId3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ification Jeopar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tegories: Fou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ily Doubles: Tw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8144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iotic; Abiot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me four criteria used in classifying organisms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 include: Morphology, behavior, genetics, development, organization, biochemistr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largest and most inclusive taxonomic rank is thi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domai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mallest and least inclusive major taxonomic rank is thi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speci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ve all eight major taxonomic ranks, in order from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leas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mos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nclusiv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67652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pecies, genus, family, order, class, phylum, kingdom, dom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ogons and Quetzals are both in the order Trogoniformes.  These are the taxonomic ranks that they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oul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hare, but not necessaril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00cc"/>
                </a:solidFill>
                <a:uFillTx/>
                <a:latin typeface="Garamond"/>
                <a:hlinkClick r:id="rId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00cc"/>
                </a:solidFill>
                <a:uFillTx/>
                <a:latin typeface="Garamond"/>
                <a:hlinkClick r:id="rId4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5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00cc"/>
                </a:solidFill>
                <a:uFillTx/>
                <a:latin typeface="Garamond"/>
                <a:hlinkClick r:id="rId6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7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8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00cc"/>
                </a:solidFill>
                <a:uFillTx/>
                <a:latin typeface="Garamond"/>
                <a:hlinkClick r:id="rId9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0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00cc"/>
                </a:solidFill>
                <a:uFillTx/>
                <a:latin typeface="Garamond"/>
                <a:hlinkClick r:id="rId11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2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00cc"/>
                </a:solidFill>
                <a:uFillTx/>
                <a:latin typeface="Garamond"/>
                <a:hlinkClick r:id="rId13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14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15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6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00cc"/>
                </a:solidFill>
                <a:uFillTx/>
                <a:latin typeface="Garamond"/>
                <a:hlinkClick r:id="rId17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8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00cc"/>
                </a:solidFill>
                <a:uFillTx/>
                <a:latin typeface="Garamond"/>
                <a:hlinkClick r:id="rId19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20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00cc"/>
                </a:solidFill>
                <a:uFillTx/>
                <a:latin typeface="Garamond"/>
                <a:hlinkClick r:id="rId21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22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23" action="ppaction://hlinksldjump"/>
          </p:cNvPr>
          <p:cNvSpPr/>
          <p:nvPr/>
        </p:nvSpPr>
        <p:spPr>
          <a:xfrm>
            <a:off x="373392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00cc"/>
                </a:solidFill>
                <a:uFillTx/>
                <a:latin typeface="Garamond"/>
                <a:hlinkClick r:id="rId24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25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00cc"/>
                </a:solidFill>
                <a:uFillTx/>
                <a:latin typeface="Garamond"/>
                <a:hlinkClick r:id="rId26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27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28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29" action="ppaction://hlinksldjump"/>
          </p:cNvPr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30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31" action="ppaction://hlinksldjump"/>
          </p:cNvPr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32" action="ppaction://hlinksldjump"/>
          </p:cNvPr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33" action="ppaction://hlinksldjump"/>
          </p:cNvPr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34" action="ppaction://hlinksldjump"/>
          </p:cNvPr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35" action="ppaction://hlinksldjump"/>
          </p:cNvPr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36" action="ppaction://hlinksldjump"/>
          </p:cNvPr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Classify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xonom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tpour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ces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are family, genus, and species? 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And in fact, they do share the same family.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Princetown LET"/>
              </a:rPr>
              <a:t>DAILY DOUBLE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ger up to your current point tot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a correct answer, you earn points equal to double your wa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an incorrect answer, you lose points equal to your wa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500"/>
                            </p:stCondLst>
                            <p:childTnLst>
                              <p:par>
                                <p:cTn id="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581280" y="152280"/>
            <a:ext cx="55627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the classification of a leopard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lse sabre-tooth cats are called the family Nimravidae.  If you find a new false sabre-tooth cat fossil, could you name it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anthera harwichi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3817800" cy="4191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Panther (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Panthera pardu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 is in family Felidae. The new fossil is in family Nimravidae.  Two organisms can’t be in the same smaller group (genus in this case), but different larger groups (families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Blue-Footed Booby is called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Sula nebouxii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  What is its species nam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eboux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scientific name is comprised of these two taxonomic rank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genus and speci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ould you expect two organisms with a very recent last common ancestor to be very similar or very dissimila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ery simila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ue or False: Organisms are grouped together according to their differenc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Princetown LET"/>
              </a:rPr>
              <a:t>DAILY DOUBLE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ger up to your current point tot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a correct answer, you earn points equal to double your wa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an incorrect answer, you lose points equal to your wa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500"/>
                            </p:stCondLst>
                            <p:childTnLst>
                              <p:par>
                                <p:cTn id="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re any of these invalid scientific names?  If so, which one/s?</a:t>
            </a:r>
            <a:br>
              <a:rPr sz="4000"/>
            </a:b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Phalacorax harris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ukarya Animalia Chordata</a:t>
            </a:r>
            <a:br>
              <a:rPr sz="40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T. rex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retmochelys Imbricata</a:t>
            </a:r>
            <a:br>
              <a:rPr sz="40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Mus muscul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520" y="2285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ukarya Animalia Chordat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d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retmochelys Imbricata (could be fixed to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Eretmochelys imbricata, E. imbricat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Eretmochelys imbricata,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E. imbricat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1676160"/>
            <a:ext cx="8763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endroceratida sponges are in the class Demospongiae along with the halichondrida sponges.  The clathrinida sponges are in the class Calcinea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ch sponges share the most recent last common ancestor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dendroceratida and the halichondrida sponge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1295280"/>
            <a:ext cx="80773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f you know that two organisms share most of the taxonomic ranks, then this is what you know about how related they a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y are closely relat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240" y="50288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rganisms in the family Procyonidae are most closely related to organisms in which of these two families: Mustelidae or Otariida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447920" y="0"/>
            <a:ext cx="5918040" cy="4265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Mustelida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wo organisms both in phylum Porifera, but in different classes, Calcarea and Demospongiae, probably had a common ancestor (choose one: a few thousand, hundreds of thousands, a few million, hundreds of millions) of years ag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alse: Grouped according to similariti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undreds of millions.  (The Cambrian period, roughly 500 million years ago, to be exac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562720" y="2590560"/>
            <a:ext cx="320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is a phylogenetic tree.  What is the smallest taxon that all of these bacteria shar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5489640" cy="6629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enus.  (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Heliobacter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54860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k these organisms according to how long ago they shared a common ancestor with us, from the most recent to the most dista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0" y="0"/>
          <a:ext cx="91440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  <a:gridCol w="1524240"/>
                <a:gridCol w="15238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u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rpse Flow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on Octop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ant P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impanze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ukary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ukary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ukary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ukary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ukary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ukary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imal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anta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imal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imal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imal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imal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or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gnoliophy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llus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or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or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or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mmal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gnoliopsi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phalopo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mmal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v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mmal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ma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lpighi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ctopo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nivo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lumbifor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ma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monida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fflesiaceda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ctopidida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sida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lumbida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minida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ffles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ctop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iluropo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ph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p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nold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ulgar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lanoleu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cullat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oglody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rpse Flower, Common Octopus, Dodo, Giant Panda, Chimpanz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is the name for the science of classifying living thing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621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Princetown LET"/>
              </a:rPr>
              <a:t>DAILY DOUBLE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ger up to your current point tot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a correct answer, you earn points equal to double your wa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an incorrect answer, you lose points equal to your wa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150"/>
                            </p:stCondLst>
                            <p:childTnLst>
                              <p:par>
                                <p:cTn id="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taxonom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ame at least three characteristics of living thing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ee from the following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ed on a universal genetic code, grows and develops, as a group changes over time, obtains materials &amp; energy, made of cells, responds to its environment, reprodu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____ is the term for something that now does or once did meet the characteristics of life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_____ is the term for something that is not and never was aliv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Grant County High School</dc:creator>
  <dc:description/>
  <dc:language>en-US</dc:language>
  <cp:lastModifiedBy>Rebecca Stang</cp:lastModifiedBy>
  <dcterms:modified xsi:type="dcterms:W3CDTF">2010-03-19T11:53:48Z</dcterms:modified>
  <cp:revision>320</cp:revision>
  <dc:subject/>
  <dc:title>No Slide Title</dc:title>
</cp:coreProperties>
</file>